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8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205-BB5A-4F19-9F9D-7C7C9B99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317-4EC6-4878-B0DB-2D945BD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84E-2B30-43CB-BCA3-CC898EC9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8BD-7CBA-4833-A1E9-754CE8C1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4AC5-2522-41E7-905B-86D79820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6C0B-2ABE-464F-BC21-063CDBEF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F6B2-D60A-42EF-B6C0-366F05E6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3A68-4006-43C4-A337-70DF53DD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938C-CB12-4272-91DA-1018AFD8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8E8A-74DA-4397-A12A-95C47EEC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8155-CAED-4500-82D8-DB72686D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B9F-9057-4823-9E30-0D9DB240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7058-B094-4ADB-B7C4-9D12A063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93E5-B060-45A6-A516-36FF945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D1C5-FF58-4AEE-8034-E49A42E0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CC36-DCDD-4EE1-B21C-63F2C795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1416-5FB5-43B9-9A8D-3C175D5B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BB11-1FC9-4A6B-A403-DA07B6F9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5B4AE-3FCC-419E-B4A9-B9DB10E4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C1B55-3DB6-4290-B44F-E721D89E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3593-410A-4204-BF39-41FB6B96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4F06-95BB-46F7-B9F6-796D37D8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499-C499-4B67-85E1-C9801A8E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28C0-AADD-47BC-9B03-C18D8502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60258-3D84-41A9-A1A2-BDF3E1E2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A2A19-F1A0-4642-BEA6-53B64E0C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9109-4BF2-44DC-9112-8E991B93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3DF5-F383-4980-A672-F008C3FD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A258-AC93-40E4-B564-66CCF7D9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99D2-AD3D-4C8D-95A7-7A301BEF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C49A-CF04-4408-B0C8-90B323A7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8340-36A6-48C3-8591-C3B1D198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2E26D-E32F-428D-B33C-52722E0E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2B4-BE14-49A5-899D-8C67348D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1D6D-D66E-49B1-9B6D-BEFFD8FC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BCBC-998B-4725-819E-A7DA55A0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B304-6DF0-4FF2-B097-7456E058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DF25-B4FA-43C1-88C9-57160BDA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EF68A-30A7-42AB-A524-880D83E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BD2A-405A-4075-818B-93B60386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54B0B-BC4A-4580-B59B-1F1A0233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463DB-9485-4618-989A-8C64F99F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38E32-786F-48F8-9EAA-159A3EE8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63036-77CD-4B69-9E2D-0E065495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170-EF43-4C01-A36E-B642CBA7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25EA-EB2B-4B00-BACB-C15F5278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69F90-7659-4973-BDB3-7548629D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A6CA8-5140-4EF9-BDDB-20EF6956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2C709-B4B7-40D8-B7FC-798E23A2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FD99B-6AA6-47CE-BB15-64E3EF7E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7439-06FD-4911-AB13-32E8671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D5DB-407F-412C-8B1A-C381D3BC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782EB-0BC0-4FF4-B115-AE0362AA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661D7-8187-4E55-BC4C-2962AFF5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EAC9B-FD3B-4AB7-895C-415463CC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4F7-D746-4BF6-8F82-351222D1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1B00D-208E-41C0-9F0E-6BB77ACC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15518-8990-4F58-8D53-0E5E723B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E0CCC-BA36-476B-B2D8-3E82AF9B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96752-238E-47C9-BD47-A9B4700A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E9AD-E360-41C5-82EA-456983EC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0728A-8CB9-4F8E-9DF8-CFB32934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E24D6-DCB4-43CC-990A-83A01F13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368C8-30C4-480D-8E1B-BBECD2D8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4DDF-B987-4E30-AFC6-4BB75A86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78432-9683-4B2C-A684-7765751D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E87-13C8-47FA-A5A5-0F5B4BA5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786E-C965-4171-8B88-7E6500B0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66A4F-3B81-401E-BB66-623BCB3B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1C19E-919E-402E-8177-3D3422FB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2EB-7403-459A-B3DA-F7D0ECD1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8DB-4EDA-479D-B976-819672F1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E60C-31F5-4561-9FAD-1F438005D854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5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4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2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CD32-A5C7-4406-B9C7-64F72D4ED7BD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6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8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BD43-2033-4455-870A-34F055411DA9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8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A876-F478-42DA-A9E4-B3B847D8AA1D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8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A052-9ECE-442B-90B2-89F22E3C5FA9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8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0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1E88-9E87-4455-AAD1-F6B303E9D8CD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7" descr=""/>
          <p:cNvPicPr/>
          <p:nvPr/>
        </p:nvPicPr>
        <p:blipFill>
          <a:blip r:embed="rId1"/>
          <a:stretch/>
        </p:blipFill>
        <p:spPr>
          <a:xfrm>
            <a:off x="2475000" y="5376960"/>
            <a:ext cx="6003720" cy="9572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214880" cy="407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9621e"/>
                </a:solidFill>
                <a:latin typeface="Calibri"/>
              </a:rPr>
              <a:t>РАБОТА </a:t>
            </a:r>
            <a:br>
              <a:rPr sz="3200"/>
            </a:br>
            <a:r>
              <a:rPr b="1" i="1" lang="ru-RU" sz="3200" spc="-1" strike="noStrike">
                <a:solidFill>
                  <a:srgbClr val="09621e"/>
                </a:solidFill>
                <a:latin typeface="Calibri"/>
              </a:rPr>
              <a:t>КЛАССНОГО РУКОВОДИТЕЛЯ ПО ФОРМИРОВАНИЮ ЗДОРОВОГО ОБРАЗА ЖИЗНИ МЛАДШЕГО ШКОЛЬНИКА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J:\фото здоровье\SDC14688.JPG"/>
          <p:cNvPicPr/>
          <p:nvPr/>
        </p:nvPicPr>
        <p:blipFill>
          <a:blip r:embed="rId2"/>
          <a:srcRect l="4744" t="0" r="-1892" b="8729"/>
          <a:stretch/>
        </p:blipFill>
        <p:spPr>
          <a:xfrm>
            <a:off x="214200" y="571680"/>
            <a:ext cx="436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РАБОТА С ДЕТЬМИ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714560" y="1857240"/>
            <a:ext cx="397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65218"/>
                </a:solidFill>
                <a:latin typeface="Calibri"/>
              </a:rPr>
              <a:t>Выявление уровня готовности  и способности детей к восприятию новой информации и новых условий школьной жизн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65218"/>
                </a:solidFill>
                <a:latin typeface="Calibri"/>
              </a:rPr>
              <a:t>Планирование комплекса мероприятий, направленных на обеспечение условий формирования ЗОЖ учащихс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65218"/>
                </a:solidFill>
                <a:latin typeface="Calibri"/>
              </a:rPr>
              <a:t>Создание положительного эмоционального фона и атмосферы психологического комфорта в коллективе (ситуация успеха, укрепляющая уверенность в своих силах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J:\ГПП фото\SDC15411.JPG"/>
          <p:cNvPicPr/>
          <p:nvPr/>
        </p:nvPicPr>
        <p:blipFill>
          <a:blip r:embed="rId1"/>
          <a:stretch/>
        </p:blipFill>
        <p:spPr>
          <a:xfrm>
            <a:off x="214200" y="2357280"/>
            <a:ext cx="4314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4280" y="22824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Е ЗДОРОВЬЕ  В МОИХ РУКАХ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Овал 12"/>
          <p:cNvSpPr/>
          <p:nvPr/>
        </p:nvSpPr>
        <p:spPr>
          <a:xfrm>
            <a:off x="250920" y="5229360"/>
            <a:ext cx="2736720" cy="136836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Гимнастика для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3"/>
          <p:cNvSpPr/>
          <p:nvPr/>
        </p:nvSpPr>
        <p:spPr>
          <a:xfrm>
            <a:off x="6372360" y="5300640"/>
            <a:ext cx="2643120" cy="128592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Смена посадочного м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J:\фото здоровье\SDC14073.JPG"/>
          <p:cNvPicPr/>
          <p:nvPr/>
        </p:nvPicPr>
        <p:blipFill>
          <a:blip r:embed="rId1"/>
          <a:stretch/>
        </p:blipFill>
        <p:spPr>
          <a:xfrm>
            <a:off x="6300720" y="765000"/>
            <a:ext cx="2613240" cy="3373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SDC16103"/>
          <p:cNvPicPr/>
          <p:nvPr/>
        </p:nvPicPr>
        <p:blipFill>
          <a:blip r:embed="rId2"/>
          <a:stretch/>
        </p:blipFill>
        <p:spPr>
          <a:xfrm>
            <a:off x="324000" y="1484280"/>
            <a:ext cx="3362040" cy="2013120"/>
          </a:xfrm>
          <a:prstGeom prst="rect">
            <a:avLst/>
          </a:prstGeom>
          <a:ln w="0">
            <a:noFill/>
          </a:ln>
        </p:spPr>
      </p:pic>
      <p:sp>
        <p:nvSpPr>
          <p:cNvPr id="310" name="Овал 5"/>
          <p:cNvSpPr/>
          <p:nvPr/>
        </p:nvSpPr>
        <p:spPr>
          <a:xfrm>
            <a:off x="3419640" y="5157720"/>
            <a:ext cx="2714400" cy="150012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Беседы для детей – урок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4"/>
          <p:cNvSpPr/>
          <p:nvPr/>
        </p:nvSpPr>
        <p:spPr>
          <a:xfrm>
            <a:off x="6500880" y="3429000"/>
            <a:ext cx="2643120" cy="142884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Дн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2"/>
          <p:cNvSpPr/>
          <p:nvPr/>
        </p:nvSpPr>
        <p:spPr>
          <a:xfrm>
            <a:off x="395280" y="3429000"/>
            <a:ext cx="2643120" cy="135720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Динамические пере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3" descr="SDC16099"/>
          <p:cNvPicPr/>
          <p:nvPr/>
        </p:nvPicPr>
        <p:blipFill>
          <a:blip r:embed="rId3"/>
          <a:stretch/>
        </p:blipFill>
        <p:spPr>
          <a:xfrm>
            <a:off x="3851280" y="1916280"/>
            <a:ext cx="2160720" cy="1601640"/>
          </a:xfrm>
          <a:prstGeom prst="rect">
            <a:avLst/>
          </a:prstGeom>
          <a:ln w="0">
            <a:noFill/>
          </a:ln>
        </p:spPr>
      </p:pic>
      <p:sp>
        <p:nvSpPr>
          <p:cNvPr id="314" name="Овал 6"/>
          <p:cNvSpPr/>
          <p:nvPr/>
        </p:nvSpPr>
        <p:spPr>
          <a:xfrm>
            <a:off x="3419640" y="3429000"/>
            <a:ext cx="2643120" cy="142884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Физпаузы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28800" y="2282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РАДИЦИОННЫЕ МЕРОПРИЯТИ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214200" y="2000160"/>
            <a:ext cx="2428920" cy="85752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Спортивные праз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2214720" y="3143160"/>
            <a:ext cx="2500200" cy="85752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Смотр</a:t>
            </a:r>
            <a:r>
              <a:rPr b="1" lang="ru-RU" sz="2000" spc="-1" strike="noStrike">
                <a:solidFill>
                  <a:srgbClr val="09621e"/>
                </a:solidFill>
                <a:latin typeface="Arial"/>
              </a:rPr>
              <a:t>ы</a:t>
            </a: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 строя и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4214880" y="4500720"/>
            <a:ext cx="2571840" cy="85716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621e"/>
                </a:solidFill>
                <a:latin typeface="Calibri"/>
              </a:rPr>
              <a:t>Экскурсии, походы, трудовые дес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6429240" y="5572080"/>
            <a:ext cx="2428920" cy="85716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Семейные праз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E:\SDC14831.JPG"/>
          <p:cNvPicPr/>
          <p:nvPr/>
        </p:nvPicPr>
        <p:blipFill>
          <a:blip r:embed="rId1"/>
          <a:srcRect l="0" t="10489" r="0" b="0"/>
          <a:stretch/>
        </p:blipFill>
        <p:spPr>
          <a:xfrm>
            <a:off x="5143680" y="1890720"/>
            <a:ext cx="3676320" cy="2513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D:\фото здоровье\SDC13962.JPG"/>
          <p:cNvPicPr/>
          <p:nvPr/>
        </p:nvPicPr>
        <p:blipFill>
          <a:blip r:embed="rId2"/>
          <a:stretch/>
        </p:blipFill>
        <p:spPr>
          <a:xfrm>
            <a:off x="250920" y="4149720"/>
            <a:ext cx="36068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D:\Мои рисунки\65лет\SDC13341.JPG"/>
          <p:cNvPicPr/>
          <p:nvPr/>
        </p:nvPicPr>
        <p:blipFill>
          <a:blip r:embed="rId1"/>
          <a:stretch/>
        </p:blipFill>
        <p:spPr>
          <a:xfrm>
            <a:off x="214200" y="192888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D:\Мои рисунки\фото сан\100_2254.JPG"/>
          <p:cNvPicPr/>
          <p:nvPr/>
        </p:nvPicPr>
        <p:blipFill>
          <a:blip r:embed="rId2"/>
          <a:stretch/>
        </p:blipFill>
        <p:spPr>
          <a:xfrm>
            <a:off x="5429160" y="1928880"/>
            <a:ext cx="3714840" cy="2779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D:\Мои рисунки\школа\SDC13945.JPG"/>
          <p:cNvPicPr/>
          <p:nvPr/>
        </p:nvPicPr>
        <p:blipFill>
          <a:blip r:embed="rId3"/>
          <a:stretch/>
        </p:blipFill>
        <p:spPr>
          <a:xfrm>
            <a:off x="3000240" y="4214880"/>
            <a:ext cx="3337200" cy="26431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ФОРМИРОВАНИЕ ЗОЖ ЧЕРЕЗ САМОРАЗВИТИЕ ДЕТЕ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Прямоугольник 16"/>
          <p:cNvSpPr/>
          <p:nvPr/>
        </p:nvSpPr>
        <p:spPr>
          <a:xfrm>
            <a:off x="3071880" y="1785960"/>
            <a:ext cx="3286080" cy="91440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Различные конкурсы, направленные на поднятие самооценки ребенка</a:t>
            </a:r>
            <a:r>
              <a:rPr b="1" lang="ru-RU" sz="2000" spc="-1" strike="noStrike">
                <a:solidFill>
                  <a:srgbClr val="09621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8"/>
          <p:cNvSpPr/>
          <p:nvPr/>
        </p:nvSpPr>
        <p:spPr>
          <a:xfrm>
            <a:off x="5643720" y="5715000"/>
            <a:ext cx="3286080" cy="91440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Посещение библиот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9"/>
          <p:cNvSpPr/>
          <p:nvPr/>
        </p:nvSpPr>
        <p:spPr>
          <a:xfrm>
            <a:off x="285840" y="5715000"/>
            <a:ext cx="3286080" cy="91440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Занятия в кружках по интере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ЗДАНИЕ АТМОСФЕРЫ ПОЛОЖИТЕЛЬНОГО КОМФОРТ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0" name="Picture 3" descr="J:\ГПП фото\SDC15416.JPG"/>
          <p:cNvPicPr/>
          <p:nvPr/>
        </p:nvPicPr>
        <p:blipFill>
          <a:blip r:embed="rId1"/>
          <a:srcRect l="4082" t="7261" r="636" b="5622"/>
          <a:stretch/>
        </p:blipFill>
        <p:spPr>
          <a:xfrm>
            <a:off x="4427640" y="1844640"/>
            <a:ext cx="4208400" cy="3024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SAM_3696"/>
          <p:cNvPicPr/>
          <p:nvPr/>
        </p:nvPicPr>
        <p:blipFill>
          <a:blip r:embed="rId2"/>
          <a:srcRect l="6607" t="0" r="0" b="5570"/>
          <a:stretch/>
        </p:blipFill>
        <p:spPr>
          <a:xfrm>
            <a:off x="755640" y="3429000"/>
            <a:ext cx="4105440" cy="3112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SDC15400"/>
          <p:cNvPicPr/>
          <p:nvPr/>
        </p:nvPicPr>
        <p:blipFill>
          <a:blip r:embed="rId3"/>
          <a:stretch/>
        </p:blipFill>
        <p:spPr>
          <a:xfrm>
            <a:off x="179280" y="1484280"/>
            <a:ext cx="1976400" cy="2736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SDC15684"/>
          <p:cNvPicPr/>
          <p:nvPr/>
        </p:nvPicPr>
        <p:blipFill>
          <a:blip r:embed="rId4"/>
          <a:stretch/>
        </p:blipFill>
        <p:spPr>
          <a:xfrm>
            <a:off x="5724360" y="4292640"/>
            <a:ext cx="23814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484000" y="1700280"/>
            <a:ext cx="64803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Жил был мудрец. К нему все шли за советом, его все уважали. Но один человек сказал, что мудрец не такой уже умный, и он может это доказать. «Я задам вопрос, на который он не сможет ответить. Я поймаю бабочку, зажму ее в руках и спрошу: - «Что у меня в руках: живое или не живое?». Если он скажет: «Не живое», я выпущу ее. Если он скажет: «Живое», я ее задавлю, и он будет неправ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авистник на глазах у толпы подошел к мудрецу с зажатой в руках бабочкой и спросил: «Отгадай, что у меня здесь: живое или не живое?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Все в твоих руках!» - ответил мудре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1"/>
          <a:srcRect l="0" t="18436" r="0" b="15293"/>
          <a:stretch/>
        </p:blipFill>
        <p:spPr>
          <a:xfrm>
            <a:off x="1908000" y="260280"/>
            <a:ext cx="6985080" cy="1081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225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ДОРОВЬЕ НАШИХ ДЕТЕЙ —  В НАШИХ РУКАХ.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ЖЕЛАЮ ВСЕМ ЗДОРОВЬЯ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2" descr="J:\ГПП фото\SDC15694.JPG"/>
          <p:cNvPicPr/>
          <p:nvPr/>
        </p:nvPicPr>
        <p:blipFill>
          <a:blip r:embed="rId1"/>
          <a:stretch/>
        </p:blipFill>
        <p:spPr>
          <a:xfrm>
            <a:off x="2643120" y="21420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57200" y="22824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ДОРОВЬЕ -  НЕ ВСЁ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О ВСЁ БЕЗ ЗДОРОВЬЯ – НИЧТО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                                СОКРАТ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14800" y="1928520"/>
            <a:ext cx="54720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65218"/>
                </a:solidFill>
                <a:latin typeface="Calibri"/>
              </a:rPr>
              <a:t>Задача современной начальной школы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65218"/>
                </a:solidFill>
                <a:latin typeface="Calibri"/>
              </a:rPr>
              <a:t>формирование здорового образа жизни и воспитание сознательного, ответственного отношения к сохранению и укреплению здоровья школьников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4" descr="J:\фото здоровье\Фото078.jpg"/>
          <p:cNvPicPr/>
          <p:nvPr/>
        </p:nvPicPr>
        <p:blipFill>
          <a:blip r:embed="rId1"/>
          <a:stretch/>
        </p:blipFill>
        <p:spPr>
          <a:xfrm>
            <a:off x="249120" y="1928880"/>
            <a:ext cx="3340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856880" y="713880"/>
            <a:ext cx="72867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Стрелка вниз 5"/>
          <p:cNvSpPr/>
          <p:nvPr/>
        </p:nvSpPr>
        <p:spPr>
          <a:xfrm flipH="1" flipV="1">
            <a:off x="5142960" y="1571040"/>
            <a:ext cx="285480" cy="5000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трелка вниз 6"/>
          <p:cNvSpPr/>
          <p:nvPr/>
        </p:nvSpPr>
        <p:spPr>
          <a:xfrm flipH="1">
            <a:off x="5142960" y="3357720"/>
            <a:ext cx="285480" cy="5000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Блок-схема: процесс 8"/>
          <p:cNvSpPr/>
          <p:nvPr/>
        </p:nvSpPr>
        <p:spPr>
          <a:xfrm>
            <a:off x="2071800" y="357120"/>
            <a:ext cx="6643440" cy="1143000"/>
          </a:xfrm>
          <a:prstGeom prst="flowChartProcess">
            <a:avLst/>
          </a:prstGeom>
          <a:solidFill>
            <a:srgbClr val="eef4af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5218"/>
                </a:solidFill>
                <a:latin typeface="Calibri"/>
              </a:rPr>
              <a:t>равнодушное  отношение обучающихся младшего школьного возраста к своему здоро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Блок-схема: процесс 10"/>
          <p:cNvSpPr/>
          <p:nvPr/>
        </p:nvSpPr>
        <p:spPr>
          <a:xfrm>
            <a:off x="2071800" y="2143080"/>
            <a:ext cx="6572160" cy="1071720"/>
          </a:xfrm>
          <a:prstGeom prst="flowChartProcess">
            <a:avLst/>
          </a:prstGeom>
          <a:solidFill>
            <a:srgbClr val="eef4af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5218"/>
                </a:solidFill>
                <a:latin typeface="Calibri"/>
              </a:rPr>
              <a:t>отсутствие  опыта «не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Блок-схема: процесс 11"/>
          <p:cNvSpPr/>
          <p:nvPr/>
        </p:nvSpPr>
        <p:spPr>
          <a:xfrm>
            <a:off x="2071800" y="4000680"/>
            <a:ext cx="6500880" cy="1071360"/>
          </a:xfrm>
          <a:prstGeom prst="flowChartProcess">
            <a:avLst/>
          </a:prstGeom>
          <a:solidFill>
            <a:srgbClr val="eef4af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5218"/>
                </a:solidFill>
                <a:latin typeface="Calibri"/>
              </a:rPr>
              <a:t>неспособность прогнозировать последствия своего отношения к здоро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трелка вниз 12"/>
          <p:cNvSpPr/>
          <p:nvPr/>
        </p:nvSpPr>
        <p:spPr>
          <a:xfrm flipH="1">
            <a:off x="5142960" y="5143680"/>
            <a:ext cx="285480" cy="5000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Блок-схема: процесс 13"/>
          <p:cNvSpPr/>
          <p:nvPr/>
        </p:nvSpPr>
        <p:spPr>
          <a:xfrm>
            <a:off x="2071800" y="5786280"/>
            <a:ext cx="6500880" cy="1071720"/>
          </a:xfrm>
          <a:prstGeom prst="flowChartProcess">
            <a:avLst/>
          </a:prstGeom>
          <a:solidFill>
            <a:srgbClr val="eef4af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5218"/>
                </a:solidFill>
                <a:latin typeface="Calibri"/>
              </a:rPr>
              <a:t>невосприятие деятельности, связанной с укреплением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хема 1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82965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56920" y="-360"/>
            <a:ext cx="6248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ПРАВЛЕНИЯ РАБОТЫ ПО ФОРМИРОВАНИЮ КУЛЬТУРЫ ЗОЖ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2500200"/>
          <a:ext cx="8534520" cy="2225880"/>
        </p:xfrm>
        <a:graphic>
          <a:graphicData uri="http://schemas.openxmlformats.org/drawingml/2006/table">
            <a:tbl>
              <a:tblPr/>
              <a:tblGrid>
                <a:gridCol w="4230720"/>
                <a:gridCol w="430380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просветительская работа с родителями (законными представителями) обучаю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f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просветительско-воспитательная работа с обучающими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f9cc"/>
                    </a:solidFill>
                  </a:tcPr>
                </a:tc>
              </a:tr>
            </a:tbl>
          </a:graphicData>
        </a:graphic>
      </p:graphicFrame>
      <p:sp>
        <p:nvSpPr>
          <p:cNvPr id="290" name="Стрелка вниз 5"/>
          <p:cNvSpPr/>
          <p:nvPr/>
        </p:nvSpPr>
        <p:spPr>
          <a:xfrm rot="2725200">
            <a:off x="2602440" y="1726200"/>
            <a:ext cx="500040" cy="736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b9811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трелка вниз 6"/>
          <p:cNvSpPr/>
          <p:nvPr/>
        </p:nvSpPr>
        <p:spPr>
          <a:xfrm rot="19033200">
            <a:off x="6587640" y="1773000"/>
            <a:ext cx="500040" cy="72216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6b9811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7" descr="SAM_3364"/>
          <p:cNvPicPr/>
          <p:nvPr/>
        </p:nvPicPr>
        <p:blipFill>
          <a:blip r:embed="rId1"/>
          <a:stretch/>
        </p:blipFill>
        <p:spPr>
          <a:xfrm>
            <a:off x="3924360" y="4437000"/>
            <a:ext cx="48956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ТАПЫ РАБОТЫ С СЕМЬЕЙ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5840" y="2000160"/>
          <a:ext cx="8643960" cy="4821480"/>
        </p:xfrm>
        <a:graphic>
          <a:graphicData uri="http://schemas.openxmlformats.org/drawingml/2006/table">
            <a:tbl>
              <a:tblPr/>
              <a:tblGrid>
                <a:gridCol w="793800"/>
                <a:gridCol w="2469960"/>
                <a:gridCol w="538020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знакомительн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интересовать и побудить родителей включиться в учебно-воспитательный процесс по формированию здорового образа жизни, узнать как можно больше об ОУ, которое посещает их ребенок, о семь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бор методических рекомендации по созданию здоровьесберегающей сред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бор литературы по ЗОЖ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ветитель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ространение лучшего опыта семейн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черкивание роли отца в воспитании детей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местной деятельности с семь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семейных праздников, акций, «Дня открытых дверей», с обеспечением возможности совместного участия родителей и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ФОРМЫ И ВИДЫ РАБОТЫ С СЕМЬЕ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14200" y="1844640"/>
          <a:ext cx="8715600" cy="469116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ак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кетировани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ьюировани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кусс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лые стол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ультации специалис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дицио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ские собр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Дни открытых дверей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ейные спортивные соревно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ультации, беседы,    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и здоровь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местные внеклассные мероприятия, празд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вет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уск памяток, бюллетеней, информационных листк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нды, выставки, классные уголки по ЗОЖ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тупления на родительских собрани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МАТИКА МЕРОПРИЯТИЙ ДЛЯ РОДИТЕЛЕЙ ПО ФОРМИРОВАНИЮ ЗОЖ ДЕТЕЙ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0" y="1714320"/>
            <a:ext cx="4286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ологические особенности детей соответствующего возр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режима дня – залог здоровья младшего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оровое пит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левидение и компьютер в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филактика вирусных заболев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ь отца в воспита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дные привычки. Как с ними борот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C:\Documents and Settings\Admin\Рабочий стол\Новая папка\SDC15135.JPG"/>
          <p:cNvPicPr/>
          <p:nvPr/>
        </p:nvPicPr>
        <p:blipFill>
          <a:blip r:embed="rId1"/>
          <a:stretch/>
        </p:blipFill>
        <p:spPr>
          <a:xfrm>
            <a:off x="395280" y="2143080"/>
            <a:ext cx="39607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43040" y="0"/>
            <a:ext cx="750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НАЧЕНИЕ РАБОТЫ С РОДИТЕЛЯМ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57120" y="1225440"/>
          <a:ext cx="8786880" cy="5632560"/>
        </p:xfrm>
        <a:graphic>
          <a:graphicData uri="http://schemas.openxmlformats.org/drawingml/2006/table">
            <a:tbl>
              <a:tblPr/>
              <a:tblGrid>
                <a:gridCol w="4503960"/>
                <a:gridCol w="4282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для родителей, семь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для классного руковод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получить новые знания о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через общения с родителями получить новые знания о здоровье расширить собственный кругоз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приобщения к "живому” опыту других семей и использования его в интересах здоровья своей семьи, своих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йти поддержку решению собственных проблем в опыте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узнать о способах изменения образа жизни на более благоприятный для здоро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е, ближе узнать свой класс и реально помочь здоровью детей и их сем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найти поддержку в изменении образа жизни своей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сить уважение к себе со стороны родителей 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улучшить здоровье своих детей и других членов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способствовать укреплению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5:26:28Z</dcterms:created>
  <dc:creator>Admin</dc:creator>
  <dc:description/>
  <dc:language>en-US</dc:language>
  <cp:lastModifiedBy>1</cp:lastModifiedBy>
  <dcterms:modified xsi:type="dcterms:W3CDTF">2017-09-19T11:36:46Z</dcterms:modified>
  <cp:revision>103</cp:revision>
  <dc:subject/>
  <dc:title>      Работа  классного руководителя по формированию здорового образа жизни младшего школьника </dc:title>
</cp:coreProperties>
</file>