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BFD-1CD8-4B4A-B9AC-DD4D6A90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326-3223-423D-A78A-ECEDB7B2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970-E19D-497F-9EE5-B08DBE1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995-1D22-40A3-BFB3-763341F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074F-7A57-42BA-9BB5-488F4B8E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2B5-5BEC-4844-A6B4-5F9E0174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70E7-1820-48EA-BEB1-9364861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A6D1-E6F3-4801-943C-E261A255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C8C-EDC4-42E2-9ED7-1E6BBA6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BE1F-FAA5-45A4-9CBA-67B6A297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EC80-C3B1-41B8-A6AE-6C40728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FCF-602C-4B4B-8ED0-5EB4C47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DD0F-B7A2-4036-8162-E4C6B68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E5CF-7E0C-40FA-BEC0-9064809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5CC-565E-47A3-8299-59D15152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4FF9-CF10-44C2-A13D-C9686E1C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5540-54EC-4123-94A7-8FF14635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91BD-E090-4284-9D52-5F894E50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ABB8-BC90-45A1-B329-CBC6E1DB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2A46-E423-4CB7-B210-07397B5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722A-9F0C-4C3E-AC1F-C5654327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13B5-A1E2-464F-9304-153D760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84D-3F0E-4EE8-8F70-50796A54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B38D-A15B-45C0-B1D8-EABCA923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B7F3-37BB-4055-973C-806EE6C1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AB13-EB50-4C75-90F4-8E36FA4E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544C-237E-46E8-B96A-0C6C8B7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64CD-EEC9-44C0-851E-99BF865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4CE5-488D-4EA6-AAE1-7473B5D7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261D-D316-4E71-BF3B-F3BCCEFE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90A8-4229-4094-B7F5-53BE59C5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D4FF-0ACD-47DB-AA1F-DAD5D15C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6CFE-180D-4316-9A36-4C150A37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88D-6CAA-4408-960D-71DBFFB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F0F8-F665-4659-B514-A92FC40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D661-CC30-4ECA-AB9D-CB5C7382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1BC1-FC04-431F-B353-A5069D6B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2393-BA73-4EC0-8BEA-2A08D18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9271-8DD5-49FC-BAEB-A9AE222D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93A45-9FC4-4937-B049-989746F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C4AE-6E65-439B-B052-451B08A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DEEB-1475-4ABF-8EC9-4BE597C2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05C7-F6A2-4A7A-94B0-FBDFD45C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43166-EA61-4E54-9FC8-FCC38C85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AFB-3C09-43AC-B4A2-2971DFC6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6701-DBAB-4103-9905-C588C94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3041-12F7-4E3B-B85B-0394FFFE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F475-B3CF-46E9-AC39-6185416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37787-8A97-492C-B5A0-97D59E6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7516-D1DF-4938-AFDB-3093C20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C9EC-C802-4AA3-9B22-19044C2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938DF-085C-4EFC-9DDB-03DCD20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5E25-C2E2-4FB8-9D20-2078240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BAC3-50E7-4958-9E0F-FF393F55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88CD-C34D-454B-92F1-6E556AB8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452-4216-40B1-BBE0-4EFD0283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90FD-E7AC-4730-89D6-B9367EB6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649-F54C-497A-BB37-F970D2E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F08-35B7-45B4-938E-7862D1E4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A7C-379C-4D9D-AF38-A6B39172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65240" y="150840"/>
            <a:ext cx="9777240" cy="7257960"/>
          </a:xfrm>
          <a:prstGeom prst="rect">
            <a:avLst/>
          </a:prstGeom>
          <a:noFill/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3AF-8FC4-4E3D-A80A-22E5A20A49D3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0" y="-33480"/>
            <a:ext cx="9996120" cy="7594920"/>
            <a:chOff x="0" y="-33480"/>
            <a:chExt cx="9996120" cy="7594920"/>
          </a:xfrm>
        </p:grpSpPr>
        <p:sp>
          <p:nvSpPr>
            <p:cNvPr id="43" name="Straight Connector 109"/>
            <p:cNvSpPr/>
            <p:nvPr/>
          </p:nvSpPr>
          <p:spPr>
            <a:xfrm>
              <a:off x="2099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76400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93212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838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764000" y="0"/>
              <a:ext cx="1008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419760" y="0"/>
              <a:ext cx="504000" cy="75607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87880" y="0"/>
              <a:ext cx="4197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1757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6704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6801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87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756000" y="0"/>
              <a:ext cx="67176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109188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35368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60352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51200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71040" y="0"/>
              <a:ext cx="388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512000" y="0"/>
              <a:ext cx="22680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1091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343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872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53636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704120" y="0"/>
              <a:ext cx="4197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8558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77200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611160" y="720"/>
              <a:ext cx="144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3192120" y="0"/>
              <a:ext cx="50400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360240" y="0"/>
              <a:ext cx="419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94812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93940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452120" y="0"/>
              <a:ext cx="167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360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520000" y="0"/>
              <a:ext cx="25200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86424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512604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54601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428436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443400" y="0"/>
              <a:ext cx="388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428436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864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4116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720480" y="0"/>
              <a:ext cx="167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88024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655236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627880" y="0"/>
              <a:ext cx="33588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70412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630036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91804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97428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80400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619128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613224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628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880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74764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747648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8231760" y="720"/>
              <a:ext cx="144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812360" y="0"/>
              <a:ext cx="504000" cy="75607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980480" y="0"/>
              <a:ext cx="4197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85683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81236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7644600" y="0"/>
              <a:ext cx="25200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8231760" y="0"/>
              <a:ext cx="388440" cy="75607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90460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8484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8736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9492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915660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9324720" y="0"/>
              <a:ext cx="419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90727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9785520" y="-33480"/>
              <a:ext cx="210600" cy="759420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904600" y="0"/>
              <a:ext cx="4449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90460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9911880" y="720"/>
              <a:ext cx="1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6552000" y="0"/>
              <a:ext cx="8388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7056360" y="0"/>
              <a:ext cx="1677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7140240" y="0"/>
              <a:ext cx="419760" cy="7560720"/>
            </a:xfrm>
            <a:prstGeom prst="line">
              <a:avLst/>
            </a:prstGeom>
            <a:ln w="1908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964120" y="0"/>
              <a:ext cx="33588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7055640" y="0"/>
              <a:ext cx="388440" cy="75607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72848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896240" y="0"/>
              <a:ext cx="109188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50403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2100240"/>
            <a:ext cx="5460840" cy="344340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268360"/>
            <a:ext cx="5292720" cy="3108600"/>
            <a:chOff x="0" y="2268360"/>
            <a:chExt cx="5292720" cy="310860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268360"/>
              <a:ext cx="5292000" cy="144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5375520"/>
              <a:ext cx="5292000" cy="144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5292000" y="2269080"/>
              <a:ext cx="720" cy="310608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66E-4934-493D-9142-70426EB19809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0" y="-33480"/>
            <a:ext cx="9996120" cy="5342400"/>
            <a:chOff x="0" y="-33480"/>
            <a:chExt cx="9996120" cy="5342400"/>
          </a:xfrm>
        </p:grpSpPr>
        <p:sp>
          <p:nvSpPr>
            <p:cNvPr id="173" name="Straight Connector 7"/>
            <p:cNvSpPr/>
            <p:nvPr/>
          </p:nvSpPr>
          <p:spPr>
            <a:xfrm>
              <a:off x="2099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76400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93212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8388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764000" y="-9720"/>
              <a:ext cx="1008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419760" y="-9720"/>
              <a:ext cx="504000" cy="53179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8788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17576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6704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68012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87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52000" y="2160"/>
              <a:ext cx="504000" cy="530640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109188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35368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60352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51200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71040" y="-9720"/>
              <a:ext cx="388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5120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1091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343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872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53636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704120" y="-9720"/>
              <a:ext cx="4197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85624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77200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611160" y="-9000"/>
              <a:ext cx="144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3192120" y="-9720"/>
              <a:ext cx="50400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36024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9481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93940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4521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360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520000" y="-9720"/>
              <a:ext cx="25200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86424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512604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54601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428436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443400" y="-9720"/>
              <a:ext cx="388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428436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864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4116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72048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88024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655236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627880" y="-9720"/>
              <a:ext cx="33588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7041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6300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91804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97428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80400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619128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613224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62824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796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747648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747648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8231760" y="-9000"/>
              <a:ext cx="144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812360" y="-9720"/>
              <a:ext cx="504000" cy="53179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98048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85687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812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7644600" y="-9720"/>
              <a:ext cx="25200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8231760" y="-9720"/>
              <a:ext cx="388440" cy="53179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9046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8484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8736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9492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915660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932472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90727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9785520" y="-33480"/>
              <a:ext cx="210600" cy="534168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904600" y="-9720"/>
              <a:ext cx="4449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9046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9911880" y="-9000"/>
              <a:ext cx="1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6552000" y="-9720"/>
              <a:ext cx="8388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7056360" y="-9720"/>
              <a:ext cx="1677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7140600" y="-9720"/>
              <a:ext cx="419760" cy="5317920"/>
            </a:xfrm>
            <a:prstGeom prst="line">
              <a:avLst/>
            </a:prstGeom>
            <a:ln w="1908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964120" y="-9720"/>
              <a:ext cx="33588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7055640" y="-9720"/>
              <a:ext cx="388440" cy="53179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72848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896240" y="-9720"/>
              <a:ext cx="109188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504036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753080"/>
            <a:ext cx="10080720" cy="209844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835520"/>
            <a:ext cx="1008072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765840"/>
            <a:ext cx="10080720" cy="180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DD2-5C59-444D-BBCB-19FB151F74AD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724040"/>
            <a:ext cx="3044880" cy="365112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906640" y="1887480"/>
            <a:ext cx="0" cy="332748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887480"/>
            <a:ext cx="292248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5218200"/>
            <a:ext cx="2922480" cy="14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EDBC-3AD2-45E1-B60A-68899894A861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724040"/>
            <a:ext cx="3044880" cy="365112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906640" y="1887480"/>
            <a:ext cx="0" cy="332748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887480"/>
            <a:ext cx="292248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5218200"/>
            <a:ext cx="2922480" cy="14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5878-5991-48F8-B187-642DF8D825F1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0" y="-792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391" name="Заголовок 2" descr=""/>
          <p:cNvPicPr/>
          <p:nvPr/>
        </p:nvPicPr>
        <p:blipFill>
          <a:blip r:embed="rId2"/>
          <a:stretch/>
        </p:blipFill>
        <p:spPr>
          <a:xfrm>
            <a:off x="225360" y="2955960"/>
            <a:ext cx="927900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E:\Documents and Settings\Admin\Мои документы\Мои рисунки\esenin\sergey-esenin-13s.jpg"/>
          <p:cNvPicPr/>
          <p:nvPr/>
        </p:nvPicPr>
        <p:blipFill>
          <a:blip r:embed="rId1"/>
          <a:stretch/>
        </p:blipFill>
        <p:spPr>
          <a:xfrm>
            <a:off x="168120" y="826920"/>
            <a:ext cx="9744120" cy="590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E:\Documents and Settings\Admin\Мои документы\Мои рисунки\esenin\berrosh.jpg"/>
          <p:cNvPicPr/>
          <p:nvPr/>
        </p:nvPicPr>
        <p:blipFill>
          <a:blip r:embed="rId1"/>
          <a:stretch/>
        </p:blipFill>
        <p:spPr>
          <a:xfrm>
            <a:off x="255600" y="754200"/>
            <a:ext cx="9567720" cy="60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E:\Documents and Settings\Admin\Мои документы\Мои рисунки\esenin\dog.jpg"/>
          <p:cNvPicPr/>
          <p:nvPr/>
        </p:nvPicPr>
        <p:blipFill>
          <a:blip r:embed="rId1"/>
          <a:stretch/>
        </p:blipFill>
        <p:spPr>
          <a:xfrm>
            <a:off x="2676600" y="250920"/>
            <a:ext cx="4727520" cy="70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642160" cy="715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E:\Documents and Settings\Admin\Мои документы\Мои рисунки\esenin\kachalov.jpg"/>
          <p:cNvPicPr/>
          <p:nvPr/>
        </p:nvPicPr>
        <p:blipFill>
          <a:blip r:embed="rId1"/>
          <a:stretch/>
        </p:blipFill>
        <p:spPr>
          <a:xfrm>
            <a:off x="2303640" y="290520"/>
            <a:ext cx="547344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E:\Documents and Settings\Admin\Мои документы\Мои рисунки\esenin\2.jpg"/>
          <p:cNvPicPr/>
          <p:nvPr/>
        </p:nvPicPr>
        <p:blipFill>
          <a:blip r:embed="rId1"/>
          <a:stretch/>
        </p:blipFill>
        <p:spPr>
          <a:xfrm>
            <a:off x="2376360" y="155520"/>
            <a:ext cx="5327640" cy="724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ext Placeholder 2" descr=""/>
          <p:cNvPicPr/>
          <p:nvPr/>
        </p:nvPicPr>
        <p:blipFill>
          <a:blip r:embed="rId1"/>
          <a:stretch/>
        </p:blipFill>
        <p:spPr>
          <a:xfrm>
            <a:off x="431640" y="250920"/>
            <a:ext cx="9217080" cy="691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410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E:\Documents and Settings\Admin\Мои документы\Мои рисунки\esenin\уesenin.jpg"/>
          <p:cNvPicPr/>
          <p:nvPr/>
        </p:nvPicPr>
        <p:blipFill>
          <a:blip r:embed="rId1"/>
          <a:stretch/>
        </p:blipFill>
        <p:spPr>
          <a:xfrm>
            <a:off x="1079640" y="149400"/>
            <a:ext cx="7921440" cy="726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E:\Documents and Settings\Admin\Мои документы\Мои рисунки\esenin\Рисунок3.jpg"/>
          <p:cNvPicPr/>
          <p:nvPr/>
        </p:nvPicPr>
        <p:blipFill>
          <a:blip r:embed="rId1"/>
          <a:stretch/>
        </p:blipFill>
        <p:spPr>
          <a:xfrm>
            <a:off x="2655720" y="190440"/>
            <a:ext cx="4767480" cy="717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E:\Documents and Settings\Admin\Мои документы\Мои рисунки\esenin\Рисунок2.jpg"/>
          <p:cNvPicPr/>
          <p:nvPr/>
        </p:nvPicPr>
        <p:blipFill>
          <a:blip r:embed="rId1"/>
          <a:stretch/>
        </p:blipFill>
        <p:spPr>
          <a:xfrm>
            <a:off x="2519280" y="250920"/>
            <a:ext cx="4867200" cy="704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E:\Documents and Settings\Admin\Мои документы\Мои рисунки\esenin\1.jpg"/>
          <p:cNvPicPr/>
          <p:nvPr/>
        </p:nvPicPr>
        <p:blipFill>
          <a:blip r:embed="rId1"/>
          <a:stretch/>
        </p:blipFill>
        <p:spPr>
          <a:xfrm>
            <a:off x="1566720" y="230040"/>
            <a:ext cx="6946920" cy="70995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Documents and Settings\Admin\Мои документы\Мои рисунки\esenin\sergey-esenin-1s.jpg"/>
          <p:cNvPicPr/>
          <p:nvPr/>
        </p:nvPicPr>
        <p:blipFill>
          <a:blip r:embed="rId1"/>
          <a:stretch/>
        </p:blipFill>
        <p:spPr>
          <a:xfrm>
            <a:off x="2232000" y="135000"/>
            <a:ext cx="5616720" cy="728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E:\Documents and Settings\Admin\Мои документы\Мои рисунки\esenin\sergey-esenin-5s.jpg"/>
          <p:cNvPicPr/>
          <p:nvPr/>
        </p:nvPicPr>
        <p:blipFill>
          <a:blip r:embed="rId1"/>
          <a:stretch/>
        </p:blipFill>
        <p:spPr>
          <a:xfrm>
            <a:off x="2930400" y="324000"/>
            <a:ext cx="42181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E:\Documents and Settings\Admin\Мои документы\Мои рисунки\esenin\sergey-esenin-4s.jpg"/>
          <p:cNvPicPr/>
          <p:nvPr/>
        </p:nvPicPr>
        <p:blipFill>
          <a:blip r:embed="rId1"/>
          <a:stretch/>
        </p:blipFill>
        <p:spPr>
          <a:xfrm>
            <a:off x="2668680" y="179280"/>
            <a:ext cx="4743360" cy="720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E:\Documents and Settings\Admin\Мои документы\Мои рисунки\esenin\derevnia.jpg"/>
          <p:cNvPicPr/>
          <p:nvPr/>
        </p:nvPicPr>
        <p:blipFill>
          <a:blip r:embed="rId1"/>
          <a:stretch/>
        </p:blipFill>
        <p:spPr>
          <a:xfrm>
            <a:off x="431640" y="243000"/>
            <a:ext cx="9217080" cy="707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E:\Documents and Settings\Admin\Мои документы\Мои рисунки\esenin\sergey-esenin-36s.jpg"/>
          <p:cNvPicPr/>
          <p:nvPr/>
        </p:nvPicPr>
        <p:blipFill>
          <a:blip r:embed="rId1"/>
          <a:stretch/>
        </p:blipFill>
        <p:spPr>
          <a:xfrm>
            <a:off x="2827440" y="179280"/>
            <a:ext cx="4425840" cy="720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E:\Documents and Settings\Admin\Мои документы\Мои рисунки\esenin\ber2.jpg"/>
          <p:cNvPicPr/>
          <p:nvPr/>
        </p:nvPicPr>
        <p:blipFill>
          <a:blip r:embed="rId1"/>
          <a:stretch/>
        </p:blipFill>
        <p:spPr>
          <a:xfrm>
            <a:off x="285840" y="250920"/>
            <a:ext cx="9509040" cy="70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Documents and Settings\Admin\Мои документы\Мои рисунки\esenin\klen.jpg"/>
          <p:cNvPicPr/>
          <p:nvPr/>
        </p:nvPicPr>
        <p:blipFill>
          <a:blip r:embed="rId1"/>
          <a:stretch/>
        </p:blipFill>
        <p:spPr>
          <a:xfrm>
            <a:off x="182520" y="217440"/>
            <a:ext cx="9715680" cy="712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9:52:18Z</dcterms:created>
  <dc:creator/>
  <dc:description/>
  <dc:language>en-US</dc:language>
  <cp:lastModifiedBy>Шура</cp:lastModifiedBy>
  <dcterms:modified xsi:type="dcterms:W3CDTF">2011-11-03T13:33:59Z</dcterms:modified>
  <cp:revision>6</cp:revision>
  <dc:subject/>
  <dc:title>«Не жалею, не зову, не плачу…»</dc:title>
</cp:coreProperties>
</file>