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53C-41F4-4BA5-B4E1-3F8E2E1C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AFF-9BF4-4B2E-9BA6-86974682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3CE-C9FC-4E52-9CB5-D45C8D43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DF2-1F9F-4149-811D-22898EC6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5736-E614-49BA-BE06-51470D7B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F997-D372-4B45-AEB8-C990967B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54CB-DACA-44F1-A873-8E6D77FF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8966-6C39-4FCF-B9DB-1A2EFDAB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ABD9-4DA9-4926-A1CF-21BC5E55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0F8D-BAED-4EDA-9012-D2CB803C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2908-D2A1-410F-AE9C-0894FFF7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2B6-06CA-4284-90FA-252BAFD2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C5A0-8517-4C1F-B4D3-E10BE339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D7AD-CBA7-4345-B86C-6990025B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00DB-529B-4E4C-BB1F-1CB06661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23D7-C363-4265-B32B-5AD35670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1324-57DD-4B45-88F8-E9A9004C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82D88-8F4A-4AF0-BD97-3189B68B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EFDF1-D763-4CFF-A79F-B41698BB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F192-377E-483D-B76C-BDBE52A3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50D64-A1E7-4C30-976F-DC4A680B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D0387-8F55-4CC4-9D9D-3AD3DED6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111-EE7A-49F2-BEA0-F05623EC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33B8-8E26-495A-B6AE-FA054B49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1717-FC9B-470D-8711-9D3439A5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A96A3-BEFB-4B2E-B671-CD1F3BEB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670F-D151-4925-A650-5FB67B41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36B1D-6877-43A6-AD80-E21B1376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72271-071D-4836-AB29-3DE24390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68EAA-AAA7-43F9-AA9E-8588C6BA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43FC4-94D0-4409-ABD0-FD6A21CA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761A9-E4FE-4274-8FAD-9BD201B2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F72BD-F767-4A30-8DCA-430A0A1E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43D-AE0C-4018-8D77-BF76A698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51132-A00F-408E-AEF9-7451FEDF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1125B-C7B0-4BE4-A59B-98146BA5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BCF49-C5A1-4DE4-8467-1276C05A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BDA63-CB8B-43F1-8A0D-A1416EC8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C5062-D565-4725-9D4E-244AD635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F8A71-0947-498D-A766-96E81465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37262-DEED-46C5-ABB6-3555B380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7D326-BD1D-45DF-A98B-AFE12D6E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B8E60-9B5F-49F7-8295-141B2935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CBBE4-61F3-44A7-96CF-F237E736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F56-B879-45F2-A6AA-882A7B06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977E4-2CDA-4654-A2E6-250A3043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A1E66-FD88-4987-A489-0CB1F4C4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BA195-B73F-43A6-B7A6-BB76D9E5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580B0-9CC3-4797-9908-1AAB08C8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EA88B-9B24-4DE8-A09E-F9F44334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35E92-330B-4A77-84EF-A6234126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75F6F-0309-4327-88D8-02DCC112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A9730-FB31-4213-9C7E-B26F580F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F0A45-1623-441C-99DC-5392D5AA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F500D-1A38-4572-A5FC-2682CB75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906-94D2-4066-ABA5-AEDC86F0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517AA-7D65-4380-A5CC-FF34A966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3F7-F131-46F9-9469-55D42DFF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7B8-0BDF-4F1B-AB1D-13416E9F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D20-D953-4C2D-902F-1239DD03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EB4A-3F7C-4598-8F10-17AF8776D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910C-25F5-4CCB-8009-11D41D200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5B5C-DC62-486F-9E65-A3A894602D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A4EF-F41C-4743-B69F-734F7D4F4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F34A-8EB8-4D6C-95DA-888B72787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755280" y="333000"/>
            <a:ext cx="8209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Логарифмические уравнени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и методы их реш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j0233967"/>
          <p:cNvPicPr/>
          <p:nvPr/>
        </p:nvPicPr>
        <p:blipFill>
          <a:blip r:embed="rId1"/>
          <a:stretch/>
        </p:blipFill>
        <p:spPr>
          <a:xfrm>
            <a:off x="5940360" y="3743280"/>
            <a:ext cx="32036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цензирова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 ошиб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1332000" y="981000"/>
                <a:ext cx="4529160" cy="500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Text Box 6"/>
          <p:cNvSpPr/>
          <p:nvPr/>
        </p:nvSpPr>
        <p:spPr>
          <a:xfrm>
            <a:off x="1332000" y="609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корней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из ЕГЭ – 2007 (С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6"/>
              <p:cNvSpPr txBox="1"/>
              <p:nvPr/>
            </p:nvSpPr>
            <p:spPr>
              <a:xfrm>
                <a:off x="755640" y="1557360"/>
                <a:ext cx="8388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deg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Тренаж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«Красивое»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826920" y="2637000"/>
                <a:ext cx="81378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31</m:t>
                            </m:r>
                          </m:e>
                        </m:rad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rad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rad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ra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6872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Джон Непе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images"/>
          <p:cNvPicPr/>
          <p:nvPr/>
        </p:nvPicPr>
        <p:blipFill>
          <a:blip r:embed="rId1"/>
          <a:stretch/>
        </p:blipFill>
        <p:spPr>
          <a:xfrm>
            <a:off x="826920" y="0"/>
            <a:ext cx="540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аф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831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гарифмическая функция 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определена при любом 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                          логарифмическая    при 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,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, а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ластью определения логарифмической функции является множество действи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ластью значений логарифмической функции является множество действи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8"/>
              <p:cNvSpPr txBox="1"/>
              <p:nvPr/>
            </p:nvSpPr>
            <p:spPr>
              <a:xfrm>
                <a:off x="6227640" y="1341360"/>
                <a:ext cx="10083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964360" y="6092640"/>
            <a:ext cx="401400" cy="76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14"/>
              <p:cNvSpPr txBox="1"/>
              <p:nvPr/>
            </p:nvSpPr>
            <p:spPr>
              <a:xfrm>
                <a:off x="3059280" y="2205000"/>
                <a:ext cx="18716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26560" y="25992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Логарифмическая функция – че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Логарифмическая функция – нече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Функция                              (при основании большем 1) – возраста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Функция                           при положительном, но меньшем единицы основании, - возраста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Логарифмическая функция имеет экстремум в точке (1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График функции                        пересекается с осью 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График логарифмической функции находится в верхней полу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3059280" y="2205000"/>
                <a:ext cx="1800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0"/>
              <p:cNvSpPr txBox="1"/>
              <p:nvPr/>
            </p:nvSpPr>
            <p:spPr>
              <a:xfrm>
                <a:off x="3132000" y="1197000"/>
                <a:ext cx="1943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3"/>
              <p:cNvSpPr txBox="1"/>
              <p:nvPr/>
            </p:nvSpPr>
            <p:spPr>
              <a:xfrm>
                <a:off x="4572000" y="4437000"/>
                <a:ext cx="18018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71640" y="260280"/>
            <a:ext cx="7921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.График логарифмической функции симметричен относительно 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.График логарифмической функции всегда находится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. График логарифмической функции всегда пересекает Ох в точке (1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.Существует логарифм отрицатель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. Существует логарифм дробного положитель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. График логарифмической функции проходит через точку (0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проверка дикт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684360" y="2708280"/>
                <a:ext cx="88596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ntersect</m:t>
                    </m:r>
                    <m:sSub>
                      <m:e>
                        <m:r>
                          <m:t xml:space="preserve">intersect</m:t>
                        </m:r>
                        <m:r>
                          <m:t xml:space="preserve">intersect</m:t>
                        </m:r>
                        <m:r>
                          <m:t xml:space="preserve">intersect</m:t>
                        </m:r>
                        <m:r>
                          <m:t xml:space="preserve">intersect</m:t>
                        </m:r>
                        <m:r>
                          <m:t xml:space="preserve">intersect</m:t>
                        </m:r>
                        <m:r>
                          <m:t xml:space="preserve">intersect</m:t>
                        </m:r>
                        <m:r>
                          <m:t xml:space="preserve">intersect</m:t>
                        </m:r>
                      </m:e>
                      <m:sub>
                        <m:r>
                          <m:t xml:space="preserve">intersect</m:t>
                        </m:r>
                      </m:sub>
                    </m:sSub>
                    <m:r>
                      <m:t xml:space="preserve">intersec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из чисел 5, 0 и – 3 являются корнями уравн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1187280" y="1844640"/>
                <a:ext cx="21607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"/>
              <p:cNvSpPr txBox="1"/>
              <p:nvPr/>
            </p:nvSpPr>
            <p:spPr>
              <a:xfrm>
                <a:off x="1042920" y="3213000"/>
                <a:ext cx="2881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8"/>
              <p:cNvSpPr txBox="1"/>
              <p:nvPr/>
            </p:nvSpPr>
            <p:spPr>
              <a:xfrm>
                <a:off x="971640" y="4724280"/>
                <a:ext cx="328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ext Box 10"/>
          <p:cNvSpPr/>
          <p:nvPr/>
        </p:nvSpPr>
        <p:spPr>
          <a:xfrm>
            <a:off x="5796000" y="1916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5940360" y="3284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5219640" y="4653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одно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вносильны ли уравн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971640" y="1268280"/>
                <a:ext cx="2736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6"/>
              <p:cNvSpPr txBox="1"/>
              <p:nvPr/>
            </p:nvSpPr>
            <p:spPr>
              <a:xfrm>
                <a:off x="5292720" y="1268280"/>
                <a:ext cx="3708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8"/>
              <p:cNvSpPr txBox="1"/>
              <p:nvPr/>
            </p:nvSpPr>
            <p:spPr>
              <a:xfrm>
                <a:off x="900000" y="2276640"/>
                <a:ext cx="28083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0"/>
              <p:cNvSpPr txBox="1"/>
              <p:nvPr/>
            </p:nvSpPr>
            <p:spPr>
              <a:xfrm>
                <a:off x="5392800" y="2421000"/>
                <a:ext cx="3751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2"/>
              <p:cNvSpPr txBox="1"/>
              <p:nvPr/>
            </p:nvSpPr>
            <p:spPr>
              <a:xfrm>
                <a:off x="900000" y="3500280"/>
                <a:ext cx="295128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3"/>
              <p:cNvSpPr txBox="1"/>
              <p:nvPr/>
            </p:nvSpPr>
            <p:spPr>
              <a:xfrm>
                <a:off x="5435640" y="3645000"/>
                <a:ext cx="338436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4"/>
              <p:cNvSpPr txBox="1"/>
              <p:nvPr/>
            </p:nvSpPr>
            <p:spPr>
              <a:xfrm>
                <a:off x="971640" y="5013360"/>
                <a:ext cx="31669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5"/>
              <p:cNvSpPr txBox="1"/>
              <p:nvPr/>
            </p:nvSpPr>
            <p:spPr>
              <a:xfrm>
                <a:off x="5508720" y="5013360"/>
                <a:ext cx="316692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AutoShape 16"/>
          <p:cNvSpPr/>
          <p:nvPr/>
        </p:nvSpPr>
        <p:spPr>
          <a:xfrm>
            <a:off x="3780000" y="2637000"/>
            <a:ext cx="1584000" cy="576000"/>
          </a:xfrm>
          <a:prstGeom prst="leftRightArrow">
            <a:avLst>
              <a:gd name="adj1" fmla="val 50000"/>
              <a:gd name="adj2" fmla="val 54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7"/>
          <p:cNvSpPr/>
          <p:nvPr/>
        </p:nvSpPr>
        <p:spPr>
          <a:xfrm>
            <a:off x="3995640" y="5373720"/>
            <a:ext cx="1584360" cy="576360"/>
          </a:xfrm>
          <a:prstGeom prst="leftRightArrow">
            <a:avLst>
              <a:gd name="adj1" fmla="val 50000"/>
              <a:gd name="adj2" fmla="val 547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920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ь уравнение (дать отве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азать метод решения данных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ь уравнения для представления на математическом б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4:03:29Z</dcterms:created>
  <dc:creator>Груббе Л.А.</dc:creator>
  <dc:description/>
  <dc:language>en-US</dc:language>
  <cp:lastModifiedBy>Юлия</cp:lastModifiedBy>
  <dcterms:modified xsi:type="dcterms:W3CDTF">2017-11-23T17:57:18Z</dcterms:modified>
  <cp:revision>10</cp:revision>
  <dc:subject/>
  <dc:title>Слайд 1</dc:title>
</cp:coreProperties>
</file>