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8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1CC-F64B-41D5-9E19-4EC5AAEC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ECC-0C07-4DFA-8976-F0546D48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0AC-C633-4778-AE94-BF0271A7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924-FD72-4EE1-A010-E5846A44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F640-158B-464F-9040-6166E63F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6F95-CB22-49C7-958E-E20C9E3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6C9A-7616-4A45-9871-9AC497D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472-5780-42FB-AC54-53AC426E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EB71-3747-4982-9A53-E4714A16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36B9-9610-4E58-8A14-0C11DD26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400D-349F-4002-B6A7-E03365E9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E9C-4123-4DA0-95AB-2DC5C18E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2DB6-4E35-4611-8DBD-0A0F754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52A5-8D70-4B34-A63C-6490DF1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DF49-0D7B-4C2D-B713-374EAEA0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E435-0898-43F1-92E5-79F4B810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45E3-6110-45B7-8846-469977A8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20A7-CDFD-42EA-8200-954E843C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DCD8-1B70-441B-9F66-C0F38EAA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6A814-DC8D-4286-B2F9-7AF79AF2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78F6-E30B-49DA-9388-E80B5AB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A3CB-8DC3-4733-9A75-454C746C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4E3-6574-411C-A2C4-7F89909D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0996-C431-42CE-84B6-ECA8DBBB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BF3A-B984-44F5-9849-E7DF1CE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AD03-40EB-470C-A90B-9C53062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9726-BA3C-4F8C-8376-C3506F21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601C-09FB-4649-972B-4809AFA4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47871-86D8-4110-9934-8AEBA0F4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74E3-0B9C-4440-A77B-297B229A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99FE9-C32B-4177-8996-B4E76A00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8C9C-1201-4EFB-BB35-9FBBC5A8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31967-ABB1-4F74-AC12-56005EC4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BE1-7249-442C-BD40-B264DDB6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5E210-1EB2-4FCE-8E51-B68B5D3B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F36B6-C2C7-451B-BD8D-D49C8BCE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9877-C63A-406E-9F36-19F9B2F6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CDA3D-512B-4939-9861-F905651C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7886-5CF1-431F-A9D1-6D0A7C29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13DA6-207C-44F9-9AF0-6671AD9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0EF9-06D8-4409-BA53-B15E92AA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01CB7-ED8E-4B1E-ABEC-1214D8DD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32DE-B137-48E1-BBCD-817162DF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10DDD-2A3D-4538-BECA-94B0BB7B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C22-03BF-4F13-8F75-2127BCA3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53B3D-E0A5-4B74-895C-931BCB5C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F6586-93A5-4592-AC38-20AC9A59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3938B-84AD-4E85-B92A-3EB3D87F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A0A0-ABA3-4FF3-9B10-C8963C06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779FA-AFFE-4111-ACFC-557049B7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32083-6CB9-4152-B78F-BC990171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7AD65-02F6-47AA-819C-57EA8F3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29F5C-E89B-4630-A9C4-3506E7B4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250C-E5D6-45E9-AF0D-38B251A3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CD97-671C-4B18-B2E5-BBFE1844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289-C0BC-4B72-A2FE-152D115A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0936-EB35-460F-BD1B-D0286281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55DD3-9E16-4354-B7A7-5790AA44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D4F9-DC1D-4184-9EA6-BE28B063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1CE7B-8F5E-416F-94FA-C00459E0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2D615-8432-4D98-8A24-5EABEB3C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218BE-C9AF-4DB0-95C5-F2B0004B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F9B43-E29C-41FD-9CE3-E7D45EFC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03A2E-3189-44E4-9898-0FE12525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F5EFC-A5BD-45F9-B6B8-7581B60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C5F9-EA6A-450C-812A-46F5C8C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DA8-79E6-4843-8918-25C7000C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49402-F082-43DC-8313-2255D210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169D-6A37-47DC-A281-C5E5034A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454A3-2F6E-4F7E-88DA-2A6F4B58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07F-A899-4C56-AE18-B473304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EAB-06F0-4C70-8E18-BB2ACA32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6E8A-AE5C-443D-8876-1DA262FAF80F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5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4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2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C8F9-384C-43D0-8372-734A2B57E52C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6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8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A6AA-ABEF-4520-84A9-AEC199802139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8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B139-3C2C-4528-9245-F5B8726460FC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8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A85A-4E82-467E-B5E3-6334C473E563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8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0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73C6-782E-4FCE-9E1C-D5ACA2D6D78A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7" descr=""/>
          <p:cNvPicPr/>
          <p:nvPr/>
        </p:nvPicPr>
        <p:blipFill>
          <a:blip r:embed="rId1"/>
          <a:stretch/>
        </p:blipFill>
        <p:spPr>
          <a:xfrm>
            <a:off x="2475000" y="5376960"/>
            <a:ext cx="6003720" cy="9572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214880" cy="407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9621e"/>
                </a:solidFill>
                <a:latin typeface="Calibri"/>
              </a:rPr>
              <a:t>РАБОТА </a:t>
            </a:r>
            <a:br>
              <a:rPr sz="3200"/>
            </a:br>
            <a:r>
              <a:rPr b="1" i="1" lang="ru-RU" sz="3200" spc="-1" strike="noStrike">
                <a:solidFill>
                  <a:srgbClr val="09621e"/>
                </a:solidFill>
                <a:latin typeface="Calibri"/>
              </a:rPr>
              <a:t>КЛАССНОГО РУКОВОДИТЕЛЯ ПО ФОРМИРОВАНИЮ ЗДОРОВОГО ОБРАЗА ЖИЗНИ МЛАДШЕГО ШКОЛЬНИКА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J:\фото здоровье\SDC14688.JPG"/>
          <p:cNvPicPr/>
          <p:nvPr/>
        </p:nvPicPr>
        <p:blipFill>
          <a:blip r:embed="rId2"/>
          <a:srcRect l="4744" t="0" r="-1892" b="8729"/>
          <a:stretch/>
        </p:blipFill>
        <p:spPr>
          <a:xfrm>
            <a:off x="214200" y="571680"/>
            <a:ext cx="436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РАБОТА С ДЕТЬМИ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714560" y="1857240"/>
            <a:ext cx="397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65218"/>
                </a:solidFill>
                <a:latin typeface="Calibri"/>
              </a:rPr>
              <a:t>Выявление уровня готовности  и способности детей к восприятию новой информации и новых условий школьной жизн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65218"/>
                </a:solidFill>
                <a:latin typeface="Calibri"/>
              </a:rPr>
              <a:t>Планирование комплекса мероприятий, направленных на обеспечение условий формирования ЗОЖ учащихс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65218"/>
                </a:solidFill>
                <a:latin typeface="Calibri"/>
              </a:rPr>
              <a:t>Создание положительного эмоционального фона и атмосферы психологического комфорта в коллективе (ситуация успеха, укрепляющая уверенность в своих силах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J:\ГПП фото\SDC15411.JPG"/>
          <p:cNvPicPr/>
          <p:nvPr/>
        </p:nvPicPr>
        <p:blipFill>
          <a:blip r:embed="rId1"/>
          <a:stretch/>
        </p:blipFill>
        <p:spPr>
          <a:xfrm>
            <a:off x="214200" y="2357280"/>
            <a:ext cx="4314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4280" y="22824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Е ЗДОРОВЬЕ  В МОИХ РУКАХ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Овал 12"/>
          <p:cNvSpPr/>
          <p:nvPr/>
        </p:nvSpPr>
        <p:spPr>
          <a:xfrm>
            <a:off x="250920" y="5229360"/>
            <a:ext cx="2736720" cy="136836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Гимнастика для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3"/>
          <p:cNvSpPr/>
          <p:nvPr/>
        </p:nvSpPr>
        <p:spPr>
          <a:xfrm>
            <a:off x="6372360" y="5300640"/>
            <a:ext cx="2643120" cy="128592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Смена посадочного м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J:\фото здоровье\SDC14073.JPG"/>
          <p:cNvPicPr/>
          <p:nvPr/>
        </p:nvPicPr>
        <p:blipFill>
          <a:blip r:embed="rId1"/>
          <a:stretch/>
        </p:blipFill>
        <p:spPr>
          <a:xfrm>
            <a:off x="6300720" y="765000"/>
            <a:ext cx="2613240" cy="3373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SDC16103"/>
          <p:cNvPicPr/>
          <p:nvPr/>
        </p:nvPicPr>
        <p:blipFill>
          <a:blip r:embed="rId2"/>
          <a:stretch/>
        </p:blipFill>
        <p:spPr>
          <a:xfrm>
            <a:off x="324000" y="1484280"/>
            <a:ext cx="3362040" cy="2013120"/>
          </a:xfrm>
          <a:prstGeom prst="rect">
            <a:avLst/>
          </a:prstGeom>
          <a:ln w="0">
            <a:noFill/>
          </a:ln>
        </p:spPr>
      </p:pic>
      <p:sp>
        <p:nvSpPr>
          <p:cNvPr id="310" name="Овал 5"/>
          <p:cNvSpPr/>
          <p:nvPr/>
        </p:nvSpPr>
        <p:spPr>
          <a:xfrm>
            <a:off x="3419640" y="5157720"/>
            <a:ext cx="2714400" cy="150012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Беседы для детей – урок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4"/>
          <p:cNvSpPr/>
          <p:nvPr/>
        </p:nvSpPr>
        <p:spPr>
          <a:xfrm>
            <a:off x="6500880" y="3429000"/>
            <a:ext cx="2643120" cy="142884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Дн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2"/>
          <p:cNvSpPr/>
          <p:nvPr/>
        </p:nvSpPr>
        <p:spPr>
          <a:xfrm>
            <a:off x="395280" y="3429000"/>
            <a:ext cx="2643120" cy="135720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Динамические пере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3" descr="SDC16099"/>
          <p:cNvPicPr/>
          <p:nvPr/>
        </p:nvPicPr>
        <p:blipFill>
          <a:blip r:embed="rId3"/>
          <a:stretch/>
        </p:blipFill>
        <p:spPr>
          <a:xfrm>
            <a:off x="3851280" y="1916280"/>
            <a:ext cx="2160720" cy="1601640"/>
          </a:xfrm>
          <a:prstGeom prst="rect">
            <a:avLst/>
          </a:prstGeom>
          <a:ln w="0">
            <a:noFill/>
          </a:ln>
        </p:spPr>
      </p:pic>
      <p:sp>
        <p:nvSpPr>
          <p:cNvPr id="314" name="Овал 6"/>
          <p:cNvSpPr/>
          <p:nvPr/>
        </p:nvSpPr>
        <p:spPr>
          <a:xfrm>
            <a:off x="3419640" y="3429000"/>
            <a:ext cx="2643120" cy="1428840"/>
          </a:xfrm>
          <a:prstGeom prst="ellipse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Физпаузы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28800" y="2282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РАДИЦИОННЫЕ МЕРОПРИЯТИ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214200" y="2000160"/>
            <a:ext cx="2428920" cy="85752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Спортивные праз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2214720" y="3143160"/>
            <a:ext cx="2500200" cy="85752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Смотр</a:t>
            </a:r>
            <a:r>
              <a:rPr b="1" lang="ru-RU" sz="2000" spc="-1" strike="noStrike">
                <a:solidFill>
                  <a:srgbClr val="09621e"/>
                </a:solidFill>
                <a:latin typeface="Arial"/>
              </a:rPr>
              <a:t>ы</a:t>
            </a: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 строя и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4214880" y="4500720"/>
            <a:ext cx="2571840" cy="85716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621e"/>
                </a:solidFill>
                <a:latin typeface="Calibri"/>
              </a:rPr>
              <a:t>Экскурсии, походы, трудовые дес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6429240" y="5572080"/>
            <a:ext cx="2428920" cy="85716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Семейные праз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E:\SDC14831.JPG"/>
          <p:cNvPicPr/>
          <p:nvPr/>
        </p:nvPicPr>
        <p:blipFill>
          <a:blip r:embed="rId1"/>
          <a:srcRect l="0" t="10489" r="0" b="0"/>
          <a:stretch/>
        </p:blipFill>
        <p:spPr>
          <a:xfrm>
            <a:off x="5143680" y="1890720"/>
            <a:ext cx="3676320" cy="2513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D:\фото здоровье\SDC13962.JPG"/>
          <p:cNvPicPr/>
          <p:nvPr/>
        </p:nvPicPr>
        <p:blipFill>
          <a:blip r:embed="rId2"/>
          <a:stretch/>
        </p:blipFill>
        <p:spPr>
          <a:xfrm>
            <a:off x="250920" y="4149720"/>
            <a:ext cx="36068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D:\Мои рисунки\65лет\SDC13341.JPG"/>
          <p:cNvPicPr/>
          <p:nvPr/>
        </p:nvPicPr>
        <p:blipFill>
          <a:blip r:embed="rId1"/>
          <a:stretch/>
        </p:blipFill>
        <p:spPr>
          <a:xfrm>
            <a:off x="214200" y="192888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D:\Мои рисунки\фото сан\100_2254.JPG"/>
          <p:cNvPicPr/>
          <p:nvPr/>
        </p:nvPicPr>
        <p:blipFill>
          <a:blip r:embed="rId2"/>
          <a:stretch/>
        </p:blipFill>
        <p:spPr>
          <a:xfrm>
            <a:off x="5429160" y="1928880"/>
            <a:ext cx="3714840" cy="2779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D:\Мои рисунки\школа\SDC13945.JPG"/>
          <p:cNvPicPr/>
          <p:nvPr/>
        </p:nvPicPr>
        <p:blipFill>
          <a:blip r:embed="rId3"/>
          <a:stretch/>
        </p:blipFill>
        <p:spPr>
          <a:xfrm>
            <a:off x="3000240" y="4214880"/>
            <a:ext cx="3337200" cy="26431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ФОРМИРОВАНИЕ ЗОЖ ЧЕРЕЗ САМОРАЗВИТИЕ ДЕТЕ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Прямоугольник 16"/>
          <p:cNvSpPr/>
          <p:nvPr/>
        </p:nvSpPr>
        <p:spPr>
          <a:xfrm>
            <a:off x="3071880" y="1785960"/>
            <a:ext cx="3286080" cy="91440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621e"/>
                </a:solidFill>
                <a:latin typeface="Calibri"/>
              </a:rPr>
              <a:t>Различные конкурсы, направленные на поднятие самооценки ребенка</a:t>
            </a:r>
            <a:r>
              <a:rPr b="1" lang="ru-RU" sz="2000" spc="-1" strike="noStrike">
                <a:solidFill>
                  <a:srgbClr val="09621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8"/>
          <p:cNvSpPr/>
          <p:nvPr/>
        </p:nvSpPr>
        <p:spPr>
          <a:xfrm>
            <a:off x="5643720" y="5715000"/>
            <a:ext cx="3286080" cy="91440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Посещение библиот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9"/>
          <p:cNvSpPr/>
          <p:nvPr/>
        </p:nvSpPr>
        <p:spPr>
          <a:xfrm>
            <a:off x="285840" y="5715000"/>
            <a:ext cx="3286080" cy="914400"/>
          </a:xfrm>
          <a:prstGeom prst="rect">
            <a:avLst/>
          </a:prstGeom>
          <a:solidFill>
            <a:srgbClr val="e5ee8a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21e"/>
                </a:solidFill>
                <a:latin typeface="Calibri"/>
              </a:rPr>
              <a:t>Занятия в кружках по интере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ЗДАНИЕ АТМОСФЕРЫ ПОЛОЖИТЕЛЬНОГО КОМФОРТ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0" name="Picture 3" descr="J:\ГПП фото\SDC15416.JPG"/>
          <p:cNvPicPr/>
          <p:nvPr/>
        </p:nvPicPr>
        <p:blipFill>
          <a:blip r:embed="rId1"/>
          <a:srcRect l="4082" t="7261" r="636" b="5622"/>
          <a:stretch/>
        </p:blipFill>
        <p:spPr>
          <a:xfrm>
            <a:off x="4427640" y="1844640"/>
            <a:ext cx="4208400" cy="3024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SAM_3696"/>
          <p:cNvPicPr/>
          <p:nvPr/>
        </p:nvPicPr>
        <p:blipFill>
          <a:blip r:embed="rId2"/>
          <a:srcRect l="6607" t="0" r="0" b="5570"/>
          <a:stretch/>
        </p:blipFill>
        <p:spPr>
          <a:xfrm>
            <a:off x="755640" y="3429000"/>
            <a:ext cx="4105440" cy="3112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SDC15400"/>
          <p:cNvPicPr/>
          <p:nvPr/>
        </p:nvPicPr>
        <p:blipFill>
          <a:blip r:embed="rId3"/>
          <a:stretch/>
        </p:blipFill>
        <p:spPr>
          <a:xfrm>
            <a:off x="179280" y="1484280"/>
            <a:ext cx="1976400" cy="2736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SDC15684"/>
          <p:cNvPicPr/>
          <p:nvPr/>
        </p:nvPicPr>
        <p:blipFill>
          <a:blip r:embed="rId4"/>
          <a:stretch/>
        </p:blipFill>
        <p:spPr>
          <a:xfrm>
            <a:off x="5724360" y="4292640"/>
            <a:ext cx="23814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484000" y="1700280"/>
            <a:ext cx="64803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Жил был мудрец. К нему все шли за советом, его все уважали. Но один человек сказал, что мудрец не такой уже умный, и он может это доказать. «Я задам вопрос, на который он не сможет ответить. Я поймаю бабочку, зажму ее в руках и спрошу: - «Что у меня в руках: живое или не живое?». Если он скажет: «Не живое», я выпущу ее. Если он скажет: «Живое», я ее задавлю, и он будет неправ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авистник на глазах у толпы подошел к мудрецу с зажатой в руках бабочкой и спросил: «Отгадай, что у меня здесь: живое или не живое?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Все в твоих руках!» - ответил мудре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1"/>
          <a:srcRect l="0" t="18436" r="0" b="15293"/>
          <a:stretch/>
        </p:blipFill>
        <p:spPr>
          <a:xfrm>
            <a:off x="1908000" y="260280"/>
            <a:ext cx="6985080" cy="1081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225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ДОРОВЬЕ НАШИХ ДЕТЕЙ —  В НАШИХ РУКАХ.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ЖЕЛАЮ ВСЕМ ЗДОРОВЬЯ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2" descr="J:\ГПП фото\SDC15694.JPG"/>
          <p:cNvPicPr/>
          <p:nvPr/>
        </p:nvPicPr>
        <p:blipFill>
          <a:blip r:embed="rId1"/>
          <a:stretch/>
        </p:blipFill>
        <p:spPr>
          <a:xfrm>
            <a:off x="2643120" y="21420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57200" y="22824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ДОРОВЬЕ -  НЕ ВСЁ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О ВСЁ БЕЗ ЗДОРОВЬЯ – НИЧТО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                                СОКРАТ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14800" y="1928520"/>
            <a:ext cx="54720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65218"/>
                </a:solidFill>
                <a:latin typeface="Calibri"/>
              </a:rPr>
              <a:t>Задача современной начальной школы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65218"/>
                </a:solidFill>
                <a:latin typeface="Calibri"/>
              </a:rPr>
              <a:t>формирование здорового образа жизни и воспитание сознательного, ответственного отношения к сохранению и укреплению здоровья школьников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4" descr="J:\фото здоровье\Фото078.jpg"/>
          <p:cNvPicPr/>
          <p:nvPr/>
        </p:nvPicPr>
        <p:blipFill>
          <a:blip r:embed="rId1"/>
          <a:stretch/>
        </p:blipFill>
        <p:spPr>
          <a:xfrm>
            <a:off x="249120" y="1928880"/>
            <a:ext cx="3340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856880" y="713880"/>
            <a:ext cx="72867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Стрелка вниз 5"/>
          <p:cNvSpPr/>
          <p:nvPr/>
        </p:nvSpPr>
        <p:spPr>
          <a:xfrm flipH="1" flipV="1">
            <a:off x="5142960" y="1571040"/>
            <a:ext cx="285480" cy="5000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трелка вниз 6"/>
          <p:cNvSpPr/>
          <p:nvPr/>
        </p:nvSpPr>
        <p:spPr>
          <a:xfrm flipH="1">
            <a:off x="5142960" y="3357720"/>
            <a:ext cx="285480" cy="5000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Блок-схема: процесс 8"/>
          <p:cNvSpPr/>
          <p:nvPr/>
        </p:nvSpPr>
        <p:spPr>
          <a:xfrm>
            <a:off x="2071800" y="357120"/>
            <a:ext cx="6643440" cy="1143000"/>
          </a:xfrm>
          <a:prstGeom prst="flowChartProcess">
            <a:avLst/>
          </a:prstGeom>
          <a:solidFill>
            <a:srgbClr val="eef4af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5218"/>
                </a:solidFill>
                <a:latin typeface="Calibri"/>
              </a:rPr>
              <a:t>равнодушное  отношение обучающихся младшего школьного возраста к своему здоро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Блок-схема: процесс 10"/>
          <p:cNvSpPr/>
          <p:nvPr/>
        </p:nvSpPr>
        <p:spPr>
          <a:xfrm>
            <a:off x="2071800" y="2143080"/>
            <a:ext cx="6572160" cy="1071720"/>
          </a:xfrm>
          <a:prstGeom prst="flowChartProcess">
            <a:avLst/>
          </a:prstGeom>
          <a:solidFill>
            <a:srgbClr val="eef4af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5218"/>
                </a:solidFill>
                <a:latin typeface="Calibri"/>
              </a:rPr>
              <a:t>отсутствие  опыта «не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Блок-схема: процесс 11"/>
          <p:cNvSpPr/>
          <p:nvPr/>
        </p:nvSpPr>
        <p:spPr>
          <a:xfrm>
            <a:off x="2071800" y="4000680"/>
            <a:ext cx="6500880" cy="1071360"/>
          </a:xfrm>
          <a:prstGeom prst="flowChartProcess">
            <a:avLst/>
          </a:prstGeom>
          <a:solidFill>
            <a:srgbClr val="eef4af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5218"/>
                </a:solidFill>
                <a:latin typeface="Calibri"/>
              </a:rPr>
              <a:t>неспособность прогнозировать последствия своего отношения к здоро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трелка вниз 12"/>
          <p:cNvSpPr/>
          <p:nvPr/>
        </p:nvSpPr>
        <p:spPr>
          <a:xfrm flipH="1">
            <a:off x="5142960" y="5143680"/>
            <a:ext cx="285480" cy="5000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Блок-схема: процесс 13"/>
          <p:cNvSpPr/>
          <p:nvPr/>
        </p:nvSpPr>
        <p:spPr>
          <a:xfrm>
            <a:off x="2071800" y="5786280"/>
            <a:ext cx="6500880" cy="1071720"/>
          </a:xfrm>
          <a:prstGeom prst="flowChartProcess">
            <a:avLst/>
          </a:prstGeom>
          <a:solidFill>
            <a:srgbClr val="eef4af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5218"/>
                </a:solidFill>
                <a:latin typeface="Calibri"/>
              </a:rPr>
              <a:t>невосприятие деятельности, связанной с укреплением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хема 1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82965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56920" y="-360"/>
            <a:ext cx="6248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ПРАВЛЕНИЯ РАБОТЫ ПО ФОРМИРОВАНИЮ КУЛЬТУРЫ ЗОЖ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2500200"/>
          <a:ext cx="8534520" cy="2225880"/>
        </p:xfrm>
        <a:graphic>
          <a:graphicData uri="http://schemas.openxmlformats.org/drawingml/2006/table">
            <a:tbl>
              <a:tblPr/>
              <a:tblGrid>
                <a:gridCol w="4230720"/>
                <a:gridCol w="430380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просветительская работа с родителями (законными представителями) обучаю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f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просветительско-воспитательная работа с обучающими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f9cc"/>
                    </a:solidFill>
                  </a:tcPr>
                </a:tc>
              </a:tr>
            </a:tbl>
          </a:graphicData>
        </a:graphic>
      </p:graphicFrame>
      <p:sp>
        <p:nvSpPr>
          <p:cNvPr id="290" name="Стрелка вниз 5"/>
          <p:cNvSpPr/>
          <p:nvPr/>
        </p:nvSpPr>
        <p:spPr>
          <a:xfrm rot="2725200">
            <a:off x="2602440" y="1726200"/>
            <a:ext cx="500040" cy="736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b9811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трелка вниз 6"/>
          <p:cNvSpPr/>
          <p:nvPr/>
        </p:nvSpPr>
        <p:spPr>
          <a:xfrm rot="19033200">
            <a:off x="6587640" y="1773000"/>
            <a:ext cx="500040" cy="72216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6b9811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7" descr="SAM_3364"/>
          <p:cNvPicPr/>
          <p:nvPr/>
        </p:nvPicPr>
        <p:blipFill>
          <a:blip r:embed="rId1"/>
          <a:stretch/>
        </p:blipFill>
        <p:spPr>
          <a:xfrm>
            <a:off x="3924360" y="4437000"/>
            <a:ext cx="48956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ТАПЫ РАБОТЫ С СЕМЬЕЙ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5840" y="2000160"/>
          <a:ext cx="8643960" cy="4821480"/>
        </p:xfrm>
        <a:graphic>
          <a:graphicData uri="http://schemas.openxmlformats.org/drawingml/2006/table">
            <a:tbl>
              <a:tblPr/>
              <a:tblGrid>
                <a:gridCol w="793800"/>
                <a:gridCol w="2469960"/>
                <a:gridCol w="538020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знакомительн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интересовать и побудить родителей включиться в учебно-воспитательный процесс по формированию здорового образа жизни, узнать как можно больше об ОУ, которое посещает их ребенок, о семь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бор методических рекомендации по созданию здоровьесберегающей сред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бор литературы по ЗОЖ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ветитель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ространение лучшего опыта семейн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черкивание роли отца в воспитании детей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местной деятельности с семь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семейных праздников, акций, «Дня открытых дверей», с обеспечением возможности совместного участия родителей и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ФОРМЫ И ВИДЫ РАБОТЫ С СЕМЬЕ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14200" y="1844640"/>
          <a:ext cx="8715600" cy="469116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ак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кетировани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ьюировани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кусс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лые стол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ультации специалис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дицио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ские собр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Дни открытых дверей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ейные спортивные соревно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ультации, беседы,    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и здоровь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местные внеклассные мероприятия, празд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вет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уск памяток, бюллетеней, информационных листк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нды, выставки, классные уголки по ЗОЖ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тупления на родительских собрани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МАТИКА МЕРОПРИЯТИЙ ДЛЯ РОДИТЕЛЕЙ ПО ФОРМИРОВАНИЮ ЗОЖ ДЕТЕЙ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0" y="1714320"/>
            <a:ext cx="4286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ологические особенности детей соответствующего возр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режима дня – залог здоровья младшего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оровое пит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левидение и компьютер в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филактика вирусных заболев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ь отца в воспита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дные привычки. Как с ними борот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C:\Documents and Settings\Admin\Рабочий стол\Новая папка\SDC15135.JPG"/>
          <p:cNvPicPr/>
          <p:nvPr/>
        </p:nvPicPr>
        <p:blipFill>
          <a:blip r:embed="rId1"/>
          <a:stretch/>
        </p:blipFill>
        <p:spPr>
          <a:xfrm>
            <a:off x="395280" y="2143080"/>
            <a:ext cx="39607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43040" y="0"/>
            <a:ext cx="750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НАЧЕНИЕ РАБОТЫ С РОДИТЕЛЯМ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57120" y="1225440"/>
          <a:ext cx="8786880" cy="5632560"/>
        </p:xfrm>
        <a:graphic>
          <a:graphicData uri="http://schemas.openxmlformats.org/drawingml/2006/table">
            <a:tbl>
              <a:tblPr/>
              <a:tblGrid>
                <a:gridCol w="4503960"/>
                <a:gridCol w="4282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для родителей, семь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5218"/>
                          </a:solidFill>
                          <a:latin typeface="Calibri"/>
                        </a:rPr>
                        <a:t>для классного руковод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4a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получить новые знания о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через общения с родителями получить новые знания о здоровье расширить собственный кругоз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приобщения к "живому” опыту других семей и использования его в интересах здоровья своей семьи, своих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йти поддержку решению собственных проблем в опыте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узнать о способах изменения образа жизни на более благоприятный для здоро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е, ближе узнать свой класс и реально помочь здоровью детей и их сем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найти поддержку в изменении образа жизни своей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сить уважение к себе со стороны родителей 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улучшить здоровье своих детей и других членов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способствовать укреплению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5:26:28Z</dcterms:created>
  <dc:creator>Admin</dc:creator>
  <dc:description/>
  <dc:language>en-US</dc:language>
  <cp:lastModifiedBy>1</cp:lastModifiedBy>
  <dcterms:modified xsi:type="dcterms:W3CDTF">2017-09-19T11:36:46Z</dcterms:modified>
  <cp:revision>103</cp:revision>
  <dc:subject/>
  <dc:title>      Работа  классного руководителя по формированию здорового образа жизни младшего школьника </dc:title>
</cp:coreProperties>
</file>